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0D8-E2EF-4EAD-800A-8B7EBA7F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EDF-93B9-4AE2-8AE0-ED0763D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7B1-173E-4BCB-913C-8708337C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C5C-BBFA-4828-94CD-0D88E9FE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D12-9BC5-448D-A063-93BBF81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E1F-4BE4-4AE6-8482-E5126B7D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545-322F-49C4-BAB9-8648C2E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F55-AD79-4048-A6E6-93339555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34B-846B-4574-B49B-687AEBC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3D6-00A3-4901-A679-2FC2830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284-24CE-4DB4-A27C-A9D5F4B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E6B-E855-41B2-B58D-1020276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54FD-4576-4866-975E-173C28FF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RISTOMENES OF MESSENIA - (7th century B.C.). Fighting Spartan warriors.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3276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loponnesian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ta and its al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found on the Peloponnesian Peninsula and 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ed of Athens growing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5880" y="12193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ian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s and its al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long the coasts of the Aege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rmed to protect Greece from Per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s had turned the league into its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were 431 – 404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791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and its allies vs. Athens and its a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eloponnesian War, 431-404 B.C."/>
          <p:cNvPicPr/>
          <p:nvPr/>
        </p:nvPicPr>
        <p:blipFill>
          <a:blip r:embed="rId1"/>
          <a:stretch/>
        </p:blipFill>
        <p:spPr>
          <a:xfrm>
            <a:off x="2666880" y="2514600"/>
            <a:ext cx="3429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artan warriors "/>
          <p:cNvPicPr/>
          <p:nvPr/>
        </p:nvPicPr>
        <p:blipFill>
          <a:blip r:embed="rId1"/>
          <a:stretch/>
        </p:blipFill>
        <p:spPr>
          <a:xfrm>
            <a:off x="3352680" y="3505320"/>
            <a:ext cx="5639040" cy="3186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wouldn’t let city-states leave the Delian Lea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began to attack other cities to protect its trade ro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rta and its allies were scared of Athens growing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refuses Sparta’s ultimatum to free all cities under it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4191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invades Athens countryside, burns farms, and cuts down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ens brings all its citizens within the walls of the city-state and a plague strikes {many die, food scarce, slaves escap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has a powerful army and Athens has a powerful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thens weakened, its allies joined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a gives Sparta money to improve its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captures Athens navy at Helles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572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28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and its allies win after Athens surrenders from starvation and its navy being cap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1:50:37Z</dcterms:created>
  <dc:creator>gehadde</dc:creator>
  <dc:description/>
  <dc:language>en-US</dc:language>
  <cp:lastModifiedBy>gehadde</cp:lastModifiedBy>
  <dcterms:modified xsi:type="dcterms:W3CDTF">2012-05-03T17:13:42Z</dcterms:modified>
  <cp:revision>16</cp:revision>
  <dc:subject/>
  <dc:title>Slide 1</dc:title>
</cp:coreProperties>
</file>